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5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9B3-E243-4CA9-B3A1-D349F47E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282-832C-4430-A863-BA85C942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AF2-6959-486D-AB09-DA3B389B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600-4FFD-4613-AF3B-B6F134F9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BEA-32A2-4243-AB56-DCB6D2C1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198-9C3F-49AE-B2F8-4F9D0E49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620-0D9C-4529-B0D6-DB4A2DBD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B46-31DF-457A-A2E1-6BC85DC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430-6E65-403E-9472-FA41C9B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5C4-270F-49A0-A8AB-21BC5F3F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D1A-795D-482E-B102-54BEAAB0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891-0782-4883-92F2-6A2FE2F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A9E0F4DD-7FB2-4F69-82CD-B0111462F441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jpe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Annual Review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ject Financial Overview: Past 12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Over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portunity to use a short period of idle MIT Haystack engineering time appeared for important upgrades to the Mk5 systems.  A subcontract was established after consultation with our Science Offic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quipment was forward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SIRO and VIRAC will claim their entire three years of spending during the first y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IRO found that their costs were higher than expected and asked to bring forward their costs in response; their internal budgeting will adjust to these costs and the shifted fu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C completed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 and SHAO seem to be overspending, but they have executed just over one-third of their three year bu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C37-135C-4E52-B082-901533A45B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Non-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claiming zero spe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RA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ree of the five partners received less than 5,000 € for the first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pending does not mean non-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net and JIVE are coordinating the installation and optimization of the next network bu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 has been working closely with CSIRO to install and deploy connectivity to their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168-0C5D-4B75-A320-805FA409A9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viations: Under-spe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under-spe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TE, CNIG-IGN, INAF, MPIfR, NCU, OSO, 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DANTE and NCU received less than 5,000 € for the firs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IG-IGN, MPIFR, OSO, 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partners have had delays in their network construction/installation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918-9520-40EE-B66F-B44AD4721A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Audited Returns in Gree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147680"/>
          <a:ext cx="6680160" cy="527220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0BB-2760-4715-9D97-930B960985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ed Financial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 with Audited Form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K/M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eC/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opies of all audits are in the final repo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4AB-ECC7-4BBB-90F3-9B1CAA0807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omalies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143000"/>
          <a:ext cx="8076960" cy="4884840"/>
        </p:xfrm>
        <a:graphic>
          <a:graphicData uri="http://schemas.openxmlformats.org/drawingml/2006/table">
            <a:tbl>
              <a:tblPr/>
              <a:tblGrid>
                <a:gridCol w="1211040"/>
                <a:gridCol w="1420920"/>
                <a:gridCol w="1293840"/>
                <a:gridCol w="295200"/>
                <a:gridCol w="1144800"/>
                <a:gridCol w="1417320"/>
                <a:gridCol w="12938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istrib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istrib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9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79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9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79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8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2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K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2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8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4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8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3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eA/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0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M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ORNE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46D-76FB-4363-A4F0-D01525E2EAF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udit Certificat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Encouraged" audits from all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uggestion from the 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 to be a valuable suggestion as international auditing expectations required time to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artners who received smaller distributions in period 1 expressed valid resistance to the au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EC partners expressed concern regarding a non-standard audit/au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e process, most partners have been exposed to the intricacies and potential difficulties of the audi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artners exer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ffort to com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74F-808B-4C61-B273-92E209A662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on-European Partn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artners had administrative difficulties with first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RAO and Areci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ontinental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Office continues to encourage participation in per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encourage remote participation; face to face is always more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some trave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meetings are co-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eetings try to coincide with other large gathe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A7B-23EC-44CB-950E-4C9ABDF867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1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NA1, NA2, NA3, N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716-1FDA-45AC-99C9-5ED9CF08C92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497-212B-460A-BEA0-6B9740E426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Fin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399-DCE5-4738-8846-9E38CFC980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27520" y="146052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9480" y="21049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23880" y="214488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66880" y="223668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836640" cy="405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4876920" y="2268360"/>
            <a:ext cx="888840" cy="28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6019920" y="226044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7802640" y="1981080"/>
            <a:ext cx="73188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685800" y="3110040"/>
            <a:ext cx="849240" cy="587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1752480" y="3193920"/>
            <a:ext cx="2246400" cy="590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>
            <a:off x="4338720" y="294624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tkk-ctv-eng" descr=""/>
          <p:cNvPicPr/>
          <p:nvPr/>
        </p:nvPicPr>
        <p:blipFill>
          <a:blip r:embed="rId12"/>
          <a:stretch/>
        </p:blipFill>
        <p:spPr>
          <a:xfrm>
            <a:off x="5257800" y="311940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3"/>
          <a:stretch/>
        </p:blipFill>
        <p:spPr>
          <a:xfrm>
            <a:off x="7767720" y="30956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4"/>
          <a:stretch/>
        </p:blipFill>
        <p:spPr>
          <a:xfrm>
            <a:off x="587520" y="416556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5"/>
          <a:stretch/>
        </p:blipFill>
        <p:spPr>
          <a:xfrm>
            <a:off x="1882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6"/>
          <a:stretch/>
        </p:blipFill>
        <p:spPr>
          <a:xfrm>
            <a:off x="3025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7"/>
          <a:stretch/>
        </p:blipFill>
        <p:spPr>
          <a:xfrm>
            <a:off x="4241880" y="423720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8"/>
          <a:stretch/>
        </p:blipFill>
        <p:spPr>
          <a:xfrm>
            <a:off x="5235480" y="439416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9"/>
          <a:stretch/>
        </p:blipFill>
        <p:spPr>
          <a:xfrm>
            <a:off x="6835680" y="4459320"/>
            <a:ext cx="1698840" cy="326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0"/>
          <a:stretch/>
        </p:blipFill>
        <p:spPr>
          <a:xfrm>
            <a:off x="4038480" y="54100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B79-736B-4DD6-A7D4-00CAE15ADD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und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pt of first EC t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distribution to partner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% remainder to be distributed late April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ingly unbalanced distribution between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1, NA4, SA1, and JRA1 are centered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provides administrative support for  NA2, N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activity distribution is much more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all four NA's are combined for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BAC-C8A3-4E9F-A9AB-4997EB4BDA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 of Funding, by Partne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95280" y="1219320"/>
          <a:ext cx="6616800" cy="48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61680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E89-493D-4BED-9DAF-DFB5D5AC35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447920" y="1177920"/>
          <a:ext cx="61722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77920"/>
                    <a:ext cx="61722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istribution of Funding, by Activit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F71-C882-43FB-A001-D679D2312B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orm A Inconsistenci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.2, Breakdown of the EC contribution per report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.3, Financial Information, 1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3.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00,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ont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572,000 €   (first tran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ont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01,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Office decided to move forward with a first distribution to participants based on the A3.3 total.  Rounding each partners' allocation to an even thousand, the 18 month figure is 1,226,208 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430-0038-4087-BB84-C9B373B497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etail: Historical A3.2, A3.3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16080"/>
            <a:ext cx="7162920" cy="4803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42D-E6C6-4800-9546-BD173B241A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Summary (1 of 2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147680"/>
          <a:ext cx="6680160" cy="525312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762440" y="1143000"/>
            <a:ext cx="270504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6DD-AD67-4EA7-BFB3-7B49937705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pending: Summary (2 of 2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147680"/>
          <a:ext cx="6680160" cy="5253120"/>
        </p:xfrm>
        <a:graphic>
          <a:graphicData uri="http://schemas.openxmlformats.org/drawingml/2006/table">
            <a:tbl>
              <a:tblPr/>
              <a:tblGrid>
                <a:gridCol w="396720"/>
                <a:gridCol w="893880"/>
                <a:gridCol w="1173240"/>
                <a:gridCol w="1041480"/>
                <a:gridCol w="793800"/>
                <a:gridCol w="793440"/>
                <a:gridCol w="793800"/>
                <a:gridCol w="7938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 Month Dis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Requested Contri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J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,23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A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PS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URF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ST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7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NIG-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S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HARTR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IN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2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PI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M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5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A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3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N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O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8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9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Sh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9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4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Uni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6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7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VIR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6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,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,47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1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2,21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nancial Overview: Previous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F3A-6B64-49BD-AF7D-ED6D5A6E85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7-04-16T20:45:37Z</dcterms:modified>
  <cp:revision>111</cp:revision>
  <dc:subject/>
  <dc:title>Slide 1</dc:title>
</cp:coreProperties>
</file>